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7082-B536-4BAE-A484-A85D785E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138-1240-45DA-838D-AEFEB64A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BF3-A7F0-4DE5-A05A-CAFC740A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F37-BA1D-4E48-A585-43351831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163D-0F27-4228-BA6F-180EB01E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CAC2-A2C9-4736-9A20-319CA6E5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170A-1850-49B7-8964-6A946EC4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D8AA-9897-4C85-8422-D7D17CF9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0945-7DA1-463A-AC7A-50EFCADF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432A-DDFD-48F8-95EF-06716C18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D3F0-A1A5-4787-96B9-2C5C95BA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930-0438-48FB-90F0-9B02C663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24B8-3724-4830-B10F-72B7A90C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2A02-05B5-422C-AD35-CBF96B51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B6FA-0AFB-4B9D-86F6-0E13989E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9A6C-33B5-46FA-8388-5DE60739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45D5-70BA-48D5-81D5-71923760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C842-79BD-4872-B8A6-E454B120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3150-42F5-4FAD-9727-BBAC47EE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ECC-D345-4948-9859-A19FD8CC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4BE4-57DC-4ECA-8BA0-70CB5515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1B0E-7189-4868-8A16-A7E2AA8C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29D1-0675-4BBF-A742-D3AE0362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1F6-5F09-450C-AE69-5F23D0A6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D138-2157-4928-82E3-C39D0FDD8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92DE-F416-4F03-B335-9F2FA658A93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-8128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三章  保险营销管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传统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代理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代理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代理人的业务范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代理人的法律特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保险代理人营销的优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经纪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经纪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经纪人的职业操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经纪人的业务运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创新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电话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电话营销的优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电话营销的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互联网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互联网营销的优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大大降低了展业成本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增加了新的销售机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利于提高保险服务质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网络营销的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法律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银行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银行保险的产生和发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银行保险的合作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作协议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资公司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建立金融服务集团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金融服务集团的经营模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大数据和互联网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中的大数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中大数据技术是基于对海量数据进行分析，从不同维度和深度挖掘保险应用特性，进而优化保险价值链条的各个环节。其中精准营销和精准定价以及反欺诈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大数据在精准营销中的作用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精准获取新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持续转化准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减少退保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互联网保险的定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广义定义：互联网保险业务是指保险机构依托互联网和移动通信等技术，通过自营网络平台、第三方网络平台等开展保险业务、提供保险服务的保险经营活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狭义定义：互联网保险是指基于互联网、大数据、云数据等信息技术手段，从保险产品设计、风险管理和保险信息咨询到投保、核保、保全、理赔和给付等保险全过程互联网化的保险经营活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互联网保险参与的主体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开展互联网保险业务的传统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互联网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电子商务平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中介平台。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一节   保险营销的概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营销  保险代理人  保险经纪人   互联网营销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营销的宏观环境因素和微观环境因素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纪人的业务运作主要包括哪些方面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新险种开发的主要步骤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新险种开发时如何优化险种组合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电话营销？它有什么优缺点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哪些优点？存在哪些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的合作方式有哪些？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什么是互联网保险（狭义）？我国互联网保险参与主体有哪些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营销的概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营销的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P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产品、价格、分销渠道和促销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营销的发展阶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产品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销售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市场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营销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宏观环境分析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微观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投保人行为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节    保险新险种的开发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、保险新险种的界定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新险种是指整体险种或其中的一部分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所创新或改革，能够给保险消费者带来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利益和满足的险种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二、保险新险种开发的步骤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险种开发的程序包括构思的形成、构思的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选、市场分析、开发设计、试销过程和商品化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步骤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三、保险新险种开发的策略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目标市场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产品组合策略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险种质量优化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29:14Z</dcterms:modified>
  <cp:revision>24</cp:revision>
  <dc:subject/>
  <dc:title>没有幻灯片标题</dc:title>
</cp:coreProperties>
</file>